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3E0-EE65-4015-99C5-AB26267E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312-94FD-48E9-AC44-1681BFCD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D57-F2F7-4733-A03B-847E21A1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FF6-ABF8-43A5-9939-E3A93B2F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A4F-E4B3-4112-8E99-C24CEE9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558-254C-4AE9-B968-E7A778B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9D0-B841-4820-940A-4FB084D9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A68-38E6-4106-B883-E16DC61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0CF-6982-4FE3-A4C3-EAC706F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960-C2DB-4750-9A85-7C822F9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66B-CA4B-4FFC-9D37-FBDB199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73A-4E79-45E3-9768-AEEB9B1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FF3-84D7-4BA7-A0FD-131BF803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3:43Z</dcterms:modified>
  <cp:revision>99</cp:revision>
  <dc:subject/>
  <dc:title>Présentation PowerPoint</dc:title>
</cp:coreProperties>
</file>